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6.wmf" ContentType="image/x-wmf"/>
  <Override PartName="/ppt/media/image24.png" ContentType="image/png"/>
  <Override PartName="/ppt/media/image22.wmf" ContentType="image/x-wmf"/>
  <Override PartName="/ppt/media/image21.jpeg" ContentType="image/jpeg"/>
  <Override PartName="/ppt/media/image18.wmf" ContentType="image/x-wmf"/>
  <Override PartName="/ppt/media/image2.jpeg" ContentType="image/jpeg"/>
  <Override PartName="/ppt/media/image20.png" ContentType="image/png"/>
  <Override PartName="/ppt/media/image16.png" ContentType="image/png"/>
  <Override PartName="/ppt/media/image14.jpeg" ContentType="image/jpeg"/>
  <Override PartName="/ppt/media/image15.wmf" ContentType="image/x-wmf"/>
  <Override PartName="/ppt/media/image1.jpeg" ContentType="image/jpeg"/>
  <Override PartName="/ppt/media/image10.jpeg" ContentType="image/jpeg"/>
  <Override PartName="/ppt/media/image5.png" ContentType="image/png"/>
  <Override PartName="/ppt/media/image27.png" ContentType="image/png"/>
  <Override PartName="/ppt/media/image12.wmf" ContentType="image/x-wmf"/>
  <Override PartName="/ppt/media/image30.jpeg" ContentType="image/jpeg"/>
  <Override PartName="/ppt/media/image35.wmf" ContentType="image/x-wmf"/>
  <Override PartName="/ppt/media/image32.jpeg" ContentType="image/jpeg"/>
  <Override PartName="/ppt/media/image33.wmf" ContentType="image/x-wmf"/>
  <Override PartName="/ppt/media/image13.png" ContentType="image/png"/>
  <Override PartName="/ppt/media/image37.jpeg" ContentType="image/jpeg"/>
  <Override PartName="/ppt/media/image40.wmf" ContentType="image/x-wmf"/>
  <Override PartName="/ppt/media/image34.jpeg" ContentType="image/jpeg"/>
  <Override PartName="/ppt/media/image7.jpeg" ContentType="image/jpeg"/>
  <Override PartName="/ppt/media/image28.jpeg" ContentType="image/jpeg"/>
  <Override PartName="/ppt/media/image36.wmf" ContentType="image/x-wmf"/>
  <Override PartName="/ppt/media/image39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29.wmf" ContentType="image/x-wmf"/>
  <Override PartName="/ppt/media/image31.png" ContentType="image/png"/>
  <Override PartName="/ppt/media/image6.png" ContentType="image/png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FA35-EE4C-4905-918B-9EFCE06BA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5DC4-0496-4157-A2B7-627BB9F4B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AF2A-2059-4285-9752-1ACC64D6B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ECBE-FE42-487C-BA68-DD3EBAAD8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6D10F-2526-4921-9FCB-8D98DDC9E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23303-AE7B-4E9E-AFC5-17B64D182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F1C8A-B9EE-4402-AC46-5B12DEC71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F8155-0B46-4E24-A0C6-8BF72FCFE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8F002-EE13-4D68-BA30-175BBEFDB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1A21B-2C01-4EDF-84FE-DD9C09C43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80634-520F-42ED-AD1E-995A3A03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153A-1744-4615-80D5-D9AB308A8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68CFE-0B5E-4096-A7F4-88E00EE8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195B1-BC60-47AE-84F2-488BA7C7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10F14-7730-40E9-99EB-91793EC9B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D4043-63AA-44CC-8FBC-BEB0C83CC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3DC72-5211-42EC-A966-9D93099E0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EA92B-B023-45CB-B606-C7D00DEB6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1A7BB-F657-45C0-A9FF-A57220864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74EFE-D72C-457B-8E26-FAB842984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BE018-A485-4353-8D56-E35DE991C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CF642-4757-4983-8012-1BAC73C43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A818-EFCE-49AB-82FB-3444FAABF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001B9-8CE8-442E-BC89-1C2D64830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5546A-56D1-4D14-A0FF-F68B4BE9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D4B72-7EE2-4CBE-97FD-0CE05526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52F15-E552-4D63-83B9-F260E152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E8D00-C2D3-48FA-A74A-2F2CA6743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58A86-C8D9-49F5-B0B0-01A8EEAFF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17870-1195-4F7F-ABEE-39F7B6A2D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71D11-3000-4C61-9C0D-5A54EA1F0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20B57-E3B0-4102-B857-9558A5F33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0FF90-F123-4495-98D2-9FFA26B5C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437E-F5FC-4071-AF11-8A3E04D94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F340A-3FF5-4286-8109-F334F5BF1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C5D29-B70D-4D6D-973D-7651F2319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559F5-7EFF-4DDC-85F5-10D67B6E2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6939F-CF76-4206-A2CB-DAF2F5E6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9E583-5733-4785-8FD6-291B7FB2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95C1A-FB8A-4C29-9A36-3E20CF9D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E0C60-EA58-4D4D-B726-490BECA93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081DD-ECE8-4E6F-9DAF-519AA9A7F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9CD3E-6B2D-499A-B6FC-D120AF106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DCE01-9939-4189-AE89-995E2AC12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C1FD-A28C-4F59-B2A9-6156B73BA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47E9C-D980-4995-A79F-69F9254C1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7D5F0-5B8E-47E8-90D3-17FFF6B1B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43854-F9FF-4FBA-B85A-FDFF6CAC2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6FCCC-DAED-46C0-96DD-A0BE2FCC2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BF4323-D549-4101-A74B-6FB2361C1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20E30-294E-44C4-ACD9-9EAB97B6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6A2FC-7061-48BD-A590-C73D15CD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C9059-ED6D-4182-A0D0-AFC2DB7E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41AD5-3048-4124-B412-D8C3EE27D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F00D1-B81B-4B4D-A64A-A541AABA1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6582-A38E-4363-8C5E-D00F619AA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8D6F6-6625-45E6-BE9E-993E67449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F8CC4A-36E0-4545-9CAB-74B5A987E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783E8-9289-4B87-81D8-EDF5B0D56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7EE8F-19BF-4F14-8795-FE8F7A1B1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4CF33-F3D0-4FB1-97BD-FD62A1668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E9FF22-42B4-4284-A52E-68EBCEC2E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A7A51-D759-4903-B8C8-58388AC0A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3469B-7DAE-4F8C-B884-0B796D0C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BE54BE-5A95-4F82-B0EF-83B0DFB1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D78B0B-7EB4-41D6-B485-59EEEA7C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4346-873F-4D0B-BBF3-93654D03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35DF3-1FA9-4E05-AA3C-085097BA0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E1A71-4442-40EB-B3D7-A5DDD6EEE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E2C26-B669-4BA3-9F57-873743A2B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701683-8F19-4BC4-9D8B-C86EA26D3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277D5B-570D-4ACB-9960-0F359B1FC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50DF0-5639-4C12-875D-F9834B544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CE902C-1111-4139-8F42-EE0324328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C89864-4048-47F0-90FF-8F575C817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CDFDF8-A198-471B-82AF-85F20C7C5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8EF97-2C44-4D39-8CE8-D5387065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DF5A-3D01-48A4-AB63-3CAE783E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1A10E5-AF44-447E-8E69-F203430E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42253-19AC-4C1D-8D91-3C74C13B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B09C3B-DF60-429B-8268-C7C8BC8F9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DD4732-5556-4B9B-BAD9-BA1C00A1B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F0C393-4886-4571-B8E0-E75B740B3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68D0B3-31EE-4866-BDF5-10410CF22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70D73E-A62E-4D94-B0AD-3390830B0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343D9F-2A7F-4BBB-A423-5B6710233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29FCC8-82D7-474E-9082-E4181D73A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5211DB-D1F0-492F-AEAE-6AAE19628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FF06-E673-49FE-BDF3-FD006406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D7CE91-F506-4BD4-BB86-677227B86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9B2EAF-8BFD-43FC-9345-4437942B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9C4CAC-8469-4EB7-9A04-A9680A99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B197DF-5F75-41D6-8586-FB121BA2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AEC040-7A7B-4E7A-8058-FF3C71135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11B134-8C48-4710-B541-569A22FAF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F78A8B-FABA-46D3-9256-8EC2B32BB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B79B6-BDC3-484D-B102-332AD11DB2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F725B-2FD8-459B-A59E-56FA227DFB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9AB8F-2673-45B3-A4CF-6FBD131A37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6E32F-E36E-4429-958C-5A0608696D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AE284-CD18-4D78-9A4D-69E44A14A1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3FDCD-4FDA-421C-A73B-E719A4C4FE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2AD39-04EB-4383-A074-F3680F32B5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2AC26-7FEF-4E96-BCDE-19D1B8D14DB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55640" y="17427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Verdana"/>
              </a:rPr>
              <a:t>MERCADO PARA LA AGROINDUSTRIA PERUAN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2263680" y="3429000"/>
            <a:ext cx="460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Fernando Cillóniz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www.informaccion.co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3708360" y="836640"/>
            <a:ext cx="1971720" cy="5238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1" name=""/>
          <p:cNvGraphicFramePr/>
          <p:nvPr/>
        </p:nvGraphicFramePr>
        <p:xfrm>
          <a:off x="154080" y="957240"/>
          <a:ext cx="8961480" cy="520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080" y="957240"/>
                    <a:ext cx="8961480" cy="520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"/>
          <p:cNvSpPr/>
          <p:nvPr/>
        </p:nvSpPr>
        <p:spPr>
          <a:xfrm>
            <a:off x="179280" y="6248520"/>
            <a:ext cx="44197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Fuente: Mercado Productores de Sta Anit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laboración: inform@c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410920" y="-90720"/>
            <a:ext cx="6193080" cy="114300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AZUCAR: ABASTECIMIENTO EN EL MERCADO PRODUCTORES DE SANTA ANITA (TM) -  2003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268360" y="-18000"/>
            <a:ext cx="673272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ALGODON: PRODUCC. NACIONAL (TM) Y PRECIOS CHACRA* (US$ / KG)  </a:t>
            </a:r>
            <a:br>
              <a:rPr sz="1800"/>
            </a:b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ene 01 - dic 03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-59040" y="836640"/>
            <a:ext cx="9176040" cy="6023160"/>
            <a:chOff x="-59040" y="836640"/>
            <a:chExt cx="9176040" cy="6023160"/>
          </a:xfrm>
        </p:grpSpPr>
        <p:sp>
          <p:nvSpPr>
            <p:cNvPr id="409" name=""/>
            <p:cNvSpPr/>
            <p:nvPr/>
          </p:nvSpPr>
          <p:spPr>
            <a:xfrm>
              <a:off x="-59040" y="6400800"/>
              <a:ext cx="3780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Verdana"/>
                </a:rPr>
                <a:t>* Precio de principal variedad: Algodón Tanguis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Verdana"/>
                </a:rPr>
                <a:t>Fuente: MINA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aphicFrame>
          <p:nvGraphicFramePr>
            <p:cNvPr id="410" name=""/>
            <p:cNvGraphicFramePr/>
            <p:nvPr/>
          </p:nvGraphicFramePr>
          <p:xfrm>
            <a:off x="6480" y="1233360"/>
            <a:ext cx="9110520" cy="4902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1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80" y="1233360"/>
                      <a:ext cx="9110520" cy="490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12" name=""/>
            <p:cNvGrpSpPr/>
            <p:nvPr/>
          </p:nvGrpSpPr>
          <p:grpSpPr>
            <a:xfrm>
              <a:off x="7315200" y="836640"/>
              <a:ext cx="1757880" cy="1066680"/>
              <a:chOff x="7315200" y="836640"/>
              <a:chExt cx="1757880" cy="1066680"/>
            </a:xfrm>
          </p:grpSpPr>
          <p:sp>
            <p:nvSpPr>
              <p:cNvPr id="413" name=""/>
              <p:cNvSpPr/>
              <p:nvPr/>
            </p:nvSpPr>
            <p:spPr>
              <a:xfrm>
                <a:off x="7315200" y="836640"/>
                <a:ext cx="1752480" cy="1066680"/>
              </a:xfrm>
              <a:prstGeom prst="flowChartAlternateProcess">
                <a:avLst/>
              </a:prstGeom>
              <a:solidFill>
                <a:srgbClr val="ff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923240" y="912960"/>
                <a:ext cx="406080" cy="2462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0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 </a:t>
                </a:r>
                <a:r>
                  <a:rPr b="1" lang="es-MX" sz="10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TM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429320" y="1141560"/>
                <a:ext cx="1104480" cy="69552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Año - 02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Año - 03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Variación %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8326800" y="1081080"/>
                <a:ext cx="746280" cy="75060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127,368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123,367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&lt; 3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41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"/>
          <p:cNvGrpSpPr/>
          <p:nvPr/>
        </p:nvGrpSpPr>
        <p:grpSpPr>
          <a:xfrm>
            <a:off x="168120" y="919080"/>
            <a:ext cx="9018720" cy="5797080"/>
            <a:chOff x="168120" y="919080"/>
            <a:chExt cx="9018720" cy="5797080"/>
          </a:xfrm>
        </p:grpSpPr>
        <p:graphicFrame>
          <p:nvGraphicFramePr>
            <p:cNvPr id="420" name=""/>
            <p:cNvGraphicFramePr/>
            <p:nvPr/>
          </p:nvGraphicFramePr>
          <p:xfrm>
            <a:off x="168120" y="919080"/>
            <a:ext cx="9018720" cy="52642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2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8120" y="919080"/>
                      <a:ext cx="9018720" cy="526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2" name=""/>
            <p:cNvSpPr/>
            <p:nvPr/>
          </p:nvSpPr>
          <p:spPr>
            <a:xfrm>
              <a:off x="457200" y="6165720"/>
              <a:ext cx="230184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</a:rPr>
                <a:t>*Estimado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Fuente: MINAG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25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ALGODON: PRODUCCION NACIONAL</a:t>
            </a:r>
            <a:br>
              <a:rPr sz="1800"/>
            </a:b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 (TM) - 2003 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050560" y="-9072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ESPARRAGO FRESCO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AIS DE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INO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(KG NETOS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999 -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2003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95360" y="643428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177840" y="884160"/>
            <a:ext cx="8907480" cy="5876280"/>
            <a:chOff x="177840" y="884160"/>
            <a:chExt cx="8907480" cy="5876280"/>
          </a:xfrm>
        </p:grpSpPr>
        <p:graphicFrame>
          <p:nvGraphicFramePr>
            <p:cNvPr id="429" name=""/>
            <p:cNvGraphicFramePr/>
            <p:nvPr/>
          </p:nvGraphicFramePr>
          <p:xfrm>
            <a:off x="177840" y="884160"/>
            <a:ext cx="8907480" cy="5475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3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77840" y="884160"/>
                      <a:ext cx="8907480" cy="5475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1" name=""/>
            <p:cNvSpPr/>
            <p:nvPr/>
          </p:nvSpPr>
          <p:spPr>
            <a:xfrm>
              <a:off x="496440" y="6451560"/>
              <a:ext cx="175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AD</a:t>
              </a:r>
              <a:r>
                <a:rPr b="1" i="1" lang="es-MX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UAN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836800" y="6453360"/>
              <a:ext cx="248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(*) Cifras preliminares 2003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33" name="" descr=""/>
          <p:cNvPicPr/>
          <p:nvPr/>
        </p:nvPicPr>
        <p:blipFill>
          <a:blip r:embed="rId4"/>
          <a:stretch/>
        </p:blipFill>
        <p:spPr>
          <a:xfrm>
            <a:off x="-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2050920" y="115920"/>
            <a:ext cx="680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SA: MERCADO DEL ESPARRAGO FRESCO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ENE 00 – DIC 02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47520" y="1035000"/>
            <a:ext cx="9167760" cy="5550120"/>
            <a:chOff x="47520" y="1035000"/>
            <a:chExt cx="9167760" cy="5550120"/>
          </a:xfrm>
        </p:grpSpPr>
        <p:graphicFrame>
          <p:nvGraphicFramePr>
            <p:cNvPr id="437" name=""/>
            <p:cNvGraphicFramePr/>
            <p:nvPr/>
          </p:nvGraphicFramePr>
          <p:xfrm>
            <a:off x="47520" y="1035000"/>
            <a:ext cx="9167760" cy="52945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3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7520" y="1035000"/>
                      <a:ext cx="9167760" cy="52945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439" name=""/>
            <p:cNvSpPr/>
            <p:nvPr/>
          </p:nvSpPr>
          <p:spPr>
            <a:xfrm>
              <a:off x="179280" y="6308640"/>
              <a:ext cx="2962440" cy="276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Verdana"/>
                </a:rPr>
                <a:t>Fuente : AMS / USDA 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765520" y="2297160"/>
              <a:ext cx="490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Verdana"/>
                </a:rPr>
                <a:t>2000                          2001                           2002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4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horz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268000" y="-360"/>
            <a:ext cx="68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MANGO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AIS DE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INO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(KG) CAMPAÑAS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1999/2000 -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2003/ 2004*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95400" y="1057320"/>
          <a:ext cx="9119880" cy="5342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5400" y="1057320"/>
                    <a:ext cx="9119880" cy="534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6" name=""/>
          <p:cNvSpPr/>
          <p:nvPr/>
        </p:nvSpPr>
        <p:spPr>
          <a:xfrm>
            <a:off x="28800" y="6308640"/>
            <a:ext cx="2392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ffffff"/>
                </a:solidFill>
                <a:latin typeface="Arial"/>
                <a:ea typeface="Arial"/>
              </a:rPr>
              <a:t>(*) Hasta 19 de enero 2004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Fuente: AD</a:t>
            </a:r>
            <a:r>
              <a:rPr b="1" i="1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UAN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181080" y="645948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in" orient="vert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612720" y="1159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USA: MERCADO DEL MANGO </a:t>
            </a:r>
            <a:br>
              <a:rPr sz="2200"/>
            </a:b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ENE 00 – DIC 02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0" y="1035000"/>
            <a:ext cx="9215280" cy="5684040"/>
            <a:chOff x="0" y="1035000"/>
            <a:chExt cx="9215280" cy="5684040"/>
          </a:xfrm>
        </p:grpSpPr>
        <p:graphicFrame>
          <p:nvGraphicFramePr>
            <p:cNvPr id="454" name=""/>
            <p:cNvGraphicFramePr/>
            <p:nvPr/>
          </p:nvGraphicFramePr>
          <p:xfrm>
            <a:off x="47520" y="1035000"/>
            <a:ext cx="9167760" cy="5294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5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520" y="1035000"/>
                      <a:ext cx="9167760" cy="52945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456" name=""/>
            <p:cNvSpPr/>
            <p:nvPr/>
          </p:nvSpPr>
          <p:spPr>
            <a:xfrm>
              <a:off x="0" y="6381720"/>
              <a:ext cx="27464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Fuente : AMS / USDA 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237120" y="2270160"/>
              <a:ext cx="460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Verdana"/>
                </a:rPr>
                <a:t>2000                        2001                        2002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med">
    <p:split dir="out" orient="horz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050920" y="-243360"/>
            <a:ext cx="69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UVAS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R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AIS DE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INO</a:t>
            </a:r>
            <a:br>
              <a:rPr sz="1800"/>
            </a:b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(KG NETOS) 98/99, 99/00, 00/01, 01/02, 02/03 Y 03/04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38120" y="58294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800" y="914400"/>
            <a:ext cx="9059760" cy="5917320"/>
            <a:chOff x="1800" y="914400"/>
            <a:chExt cx="9059760" cy="5917320"/>
          </a:xfrm>
        </p:grpSpPr>
        <p:graphicFrame>
          <p:nvGraphicFramePr>
            <p:cNvPr id="461" name=""/>
            <p:cNvGraphicFramePr/>
            <p:nvPr/>
          </p:nvGraphicFramePr>
          <p:xfrm>
            <a:off x="11160" y="914400"/>
            <a:ext cx="9050400" cy="5391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6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1160" y="914400"/>
                      <a:ext cx="9050400" cy="539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63" name=""/>
            <p:cNvSpPr/>
            <p:nvPr/>
          </p:nvSpPr>
          <p:spPr>
            <a:xfrm>
              <a:off x="1800" y="6524640"/>
              <a:ext cx="170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</a:t>
              </a:r>
              <a:r>
                <a:rPr b="1" i="1" lang="es-MX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UAN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750400" y="6502320"/>
              <a:ext cx="218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"/>
                </a:rPr>
                <a:t>(*)Hasta Diciembre del 2003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65" name="" descr=""/>
          <p:cNvPicPr/>
          <p:nvPr/>
        </p:nvPicPr>
        <p:blipFill>
          <a:blip r:embed="rId4"/>
          <a:stretch/>
        </p:blipFill>
        <p:spPr>
          <a:xfrm>
            <a:off x="-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0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2411280" y="115920"/>
            <a:ext cx="6481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STADOS UNIDOS: ABASTECIMIENTO DE UVA FRESCA  1999 - 2002 (TM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0" y="1035000"/>
            <a:ext cx="9215280" cy="5684040"/>
            <a:chOff x="0" y="1035000"/>
            <a:chExt cx="9215280" cy="5684040"/>
          </a:xfrm>
        </p:grpSpPr>
        <p:grpSp>
          <p:nvGrpSpPr>
            <p:cNvPr id="471" name=""/>
            <p:cNvGrpSpPr/>
            <p:nvPr/>
          </p:nvGrpSpPr>
          <p:grpSpPr>
            <a:xfrm>
              <a:off x="0" y="1035000"/>
              <a:ext cx="9215280" cy="5684040"/>
              <a:chOff x="0" y="1035000"/>
              <a:chExt cx="9215280" cy="5684040"/>
            </a:xfrm>
          </p:grpSpPr>
          <p:graphicFrame>
            <p:nvGraphicFramePr>
              <p:cNvPr id="472" name=""/>
              <p:cNvGraphicFramePr/>
              <p:nvPr/>
            </p:nvGraphicFramePr>
            <p:xfrm>
              <a:off x="47520" y="1035000"/>
              <a:ext cx="9167760" cy="5418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73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7520" y="1035000"/>
                        <a:ext cx="9167760" cy="5418360"/>
                      </a:xfrm>
                      <a:prstGeom prst="rect">
                        <a:avLst/>
                      </a:prstGeom>
                      <a:ln w="0">
                        <a:noFill/>
                      </a:ln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</p:spPr>
                  </p:pic>
                </p:oleObj>
              </a:graphicData>
            </a:graphic>
          </p:graphicFrame>
          <p:sp>
            <p:nvSpPr>
              <p:cNvPr id="474" name=""/>
              <p:cNvSpPr/>
              <p:nvPr/>
            </p:nvSpPr>
            <p:spPr>
              <a:xfrm>
                <a:off x="0" y="6381720"/>
                <a:ext cx="334800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Verdana"/>
                  </a:rPr>
                  <a:t>Fuente : Gobierno de Estados Unidos</a:t>
                </a:r>
                <a:r>
                  <a:rPr b="1" lang="es-ES_tradnl" sz="16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5" name=""/>
            <p:cNvSpPr/>
            <p:nvPr/>
          </p:nvSpPr>
          <p:spPr>
            <a:xfrm>
              <a:off x="2790720" y="2060640"/>
              <a:ext cx="48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Verdana"/>
                </a:rPr>
                <a:t>1999              2000                2001              2002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med">
    <p:split dir="out" orient="horz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0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979280" y="-243360"/>
            <a:ext cx="71643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PALTA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PAIS DE 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DESTINO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(KG NETOS)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1999,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2000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2001,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2002 y 200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-6120" y="836640"/>
            <a:ext cx="8980200" cy="6012360"/>
            <a:chOff x="-6120" y="836640"/>
            <a:chExt cx="8980200" cy="6012360"/>
          </a:xfrm>
        </p:grpSpPr>
        <p:graphicFrame>
          <p:nvGraphicFramePr>
            <p:cNvPr id="478" name=""/>
            <p:cNvGraphicFramePr/>
            <p:nvPr/>
          </p:nvGraphicFramePr>
          <p:xfrm>
            <a:off x="0" y="836640"/>
            <a:ext cx="8974080" cy="5437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7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836640"/>
                      <a:ext cx="8974080" cy="543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0" name=""/>
            <p:cNvSpPr/>
            <p:nvPr/>
          </p:nvSpPr>
          <p:spPr>
            <a:xfrm>
              <a:off x="325080" y="6237360"/>
              <a:ext cx="175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A</a:t>
              </a:r>
              <a:r>
                <a:rPr b="1" i="1" lang="es-MX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UAN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-6120" y="6541920"/>
              <a:ext cx="247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(*) Datos preliminares 2003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82" name="" descr=""/>
          <p:cNvPicPr/>
          <p:nvPr/>
        </p:nvPicPr>
        <p:blipFill>
          <a:blip r:embed="rId4"/>
          <a:stretch/>
        </p:blipFill>
        <p:spPr>
          <a:xfrm>
            <a:off x="-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195280" y="-76680"/>
            <a:ext cx="6491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PAPA: PRECIOS Y VOLUMENES SUMINISTRADOS AL MERCADO MAYORISTA DE LIMA 2001, 2002 Y 2003</a:t>
            </a:r>
            <a:r>
              <a:rPr b="0" lang="es-ES_tradnl" sz="1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-10800" y="981000"/>
            <a:ext cx="9288000" cy="5704920"/>
            <a:chOff x="-10800" y="981000"/>
            <a:chExt cx="9288000" cy="5704920"/>
          </a:xfrm>
        </p:grpSpPr>
        <p:sp>
          <p:nvSpPr>
            <p:cNvPr id="333" name=""/>
            <p:cNvSpPr/>
            <p:nvPr/>
          </p:nvSpPr>
          <p:spPr>
            <a:xfrm>
              <a:off x="-10800" y="6165720"/>
              <a:ext cx="2652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NOTA:  Precio de Papa Blanca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Fuente: EMMSA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aphicFrame>
          <p:nvGraphicFramePr>
            <p:cNvPr id="334" name=""/>
            <p:cNvGraphicFramePr/>
            <p:nvPr/>
          </p:nvGraphicFramePr>
          <p:xfrm>
            <a:off x="0" y="998280"/>
            <a:ext cx="9277200" cy="5238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3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98280"/>
                      <a:ext cx="9277200" cy="523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6" name=""/>
            <p:cNvSpPr/>
            <p:nvPr/>
          </p:nvSpPr>
          <p:spPr>
            <a:xfrm>
              <a:off x="7362720" y="981000"/>
              <a:ext cx="1752840" cy="106668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971120" y="1056960"/>
              <a:ext cx="40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TM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15200" y="1285560"/>
              <a:ext cx="110484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Año - 02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Año - 03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Variación %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74680" y="1225440"/>
              <a:ext cx="74628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480,956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462,862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&lt; 4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050560" y="-171720"/>
            <a:ext cx="7201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CITRICOS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PAIS DE 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DESTINO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(KG NETOS)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 1999, 2000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2001,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2002 y 200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3240" y="1071720"/>
            <a:ext cx="8947080" cy="5455080"/>
            <a:chOff x="3240" y="1071720"/>
            <a:chExt cx="8947080" cy="5455080"/>
          </a:xfrm>
        </p:grpSpPr>
        <p:graphicFrame>
          <p:nvGraphicFramePr>
            <p:cNvPr id="486" name=""/>
            <p:cNvGraphicFramePr/>
            <p:nvPr/>
          </p:nvGraphicFramePr>
          <p:xfrm>
            <a:off x="3240" y="1071720"/>
            <a:ext cx="8947080" cy="51559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8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240" y="1071720"/>
                      <a:ext cx="8947080" cy="51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8" name=""/>
            <p:cNvSpPr/>
            <p:nvPr/>
          </p:nvSpPr>
          <p:spPr>
            <a:xfrm>
              <a:off x="74160" y="6219720"/>
              <a:ext cx="175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A</a:t>
              </a:r>
              <a:r>
                <a:rPr b="1" i="1" lang="es-MX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UAN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89" name="" descr=""/>
          <p:cNvPicPr/>
          <p:nvPr/>
        </p:nvPicPr>
        <p:blipFill>
          <a:blip r:embed="rId4"/>
          <a:stretch/>
        </p:blipFill>
        <p:spPr>
          <a:xfrm>
            <a:off x="-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2340000" y="0"/>
            <a:ext cx="64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ESTINO MENSUAL DE LAS EXPORTACIONES DE CITR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ENERO 1999 - </a:t>
            </a: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DICIEMBRE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200</a:t>
            </a: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3 (TM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57240" y="981000"/>
            <a:ext cx="9086760" cy="6092280"/>
            <a:chOff x="57240" y="981000"/>
            <a:chExt cx="9086760" cy="6092280"/>
          </a:xfrm>
        </p:grpSpPr>
        <p:graphicFrame>
          <p:nvGraphicFramePr>
            <p:cNvPr id="493" name=""/>
            <p:cNvGraphicFramePr/>
            <p:nvPr/>
          </p:nvGraphicFramePr>
          <p:xfrm>
            <a:off x="57240" y="981000"/>
            <a:ext cx="9086760" cy="5524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9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7240" y="981000"/>
                      <a:ext cx="908676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95" name=""/>
            <p:cNvSpPr/>
            <p:nvPr/>
          </p:nvSpPr>
          <p:spPr>
            <a:xfrm>
              <a:off x="124560" y="6553080"/>
              <a:ext cx="1665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Fuente: AD</a:t>
              </a:r>
              <a:r>
                <a:rPr b="1" i="1" lang="es-MX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UAN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258920" y="2060640"/>
              <a:ext cx="734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Verdana"/>
                </a:rPr>
                <a:t>1999            2000            2001         2002          2003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9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8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050560" y="-36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STADOS UNIDOS: ABASTECIMIENTO DE CITRICOS FRESCOS 2000 - 2002 (TM)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57960" y="984240"/>
            <a:ext cx="9119520" cy="5864400"/>
            <a:chOff x="57960" y="984240"/>
            <a:chExt cx="9119520" cy="5864400"/>
          </a:xfrm>
        </p:grpSpPr>
        <p:graphicFrame>
          <p:nvGraphicFramePr>
            <p:cNvPr id="501" name=""/>
            <p:cNvGraphicFramePr/>
            <p:nvPr/>
          </p:nvGraphicFramePr>
          <p:xfrm>
            <a:off x="81000" y="984240"/>
            <a:ext cx="9096480" cy="5648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0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1000" y="984240"/>
                      <a:ext cx="9096480" cy="564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03" name=""/>
            <p:cNvSpPr/>
            <p:nvPr/>
          </p:nvSpPr>
          <p:spPr>
            <a:xfrm>
              <a:off x="57960" y="6572160"/>
              <a:ext cx="2573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Verdana"/>
                </a:rPr>
                <a:t>Fuente: Gobierno Estados Unidos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973520" y="17733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Verdana"/>
                </a:rPr>
                <a:t>2000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781520" y="17733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229520" y="17733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0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123640" y="-171720"/>
            <a:ext cx="68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Índice del Tipo de Cambio e Índice de Precios al Consumidor de Perú y Brasil (Año 1994=100)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3780000" y="6427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"/>
          <p:cNvSpPr/>
          <p:nvPr/>
        </p:nvSpPr>
        <p:spPr>
          <a:xfrm>
            <a:off x="158760" y="6251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0" y="765000"/>
            <a:ext cx="9212400" cy="6125040"/>
            <a:chOff x="0" y="765000"/>
            <a:chExt cx="9212400" cy="6125040"/>
          </a:xfrm>
        </p:grpSpPr>
        <p:sp>
          <p:nvSpPr>
            <p:cNvPr id="514" name=""/>
            <p:cNvSpPr/>
            <p:nvPr/>
          </p:nvSpPr>
          <p:spPr>
            <a:xfrm>
              <a:off x="0" y="6335640"/>
              <a:ext cx="86756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Fuente: International Financial Statistics-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national Monetary Found.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aphicFrame>
          <p:nvGraphicFramePr>
            <p:cNvPr id="515" name=""/>
            <p:cNvGraphicFramePr/>
            <p:nvPr/>
          </p:nvGraphicFramePr>
          <p:xfrm>
            <a:off x="54000" y="765000"/>
            <a:ext cx="9158400" cy="5386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1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000" y="765000"/>
                      <a:ext cx="9158400" cy="538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4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755640" y="17427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Verdana"/>
              </a:rPr>
              <a:t>MUCHAS GRACIA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2263680" y="3429000"/>
            <a:ext cx="460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Fernando Cillóniz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www.informaccion.co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3708360" y="836640"/>
            <a:ext cx="1971720" cy="5238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"/>
          <p:cNvGrpSpPr/>
          <p:nvPr/>
        </p:nvGrpSpPr>
        <p:grpSpPr>
          <a:xfrm>
            <a:off x="55440" y="1068480"/>
            <a:ext cx="9102960" cy="5730480"/>
            <a:chOff x="55440" y="1068480"/>
            <a:chExt cx="9102960" cy="5730480"/>
          </a:xfrm>
        </p:grpSpPr>
        <p:graphicFrame>
          <p:nvGraphicFramePr>
            <p:cNvPr id="343" name=""/>
            <p:cNvGraphicFramePr/>
            <p:nvPr/>
          </p:nvGraphicFramePr>
          <p:xfrm>
            <a:off x="55440" y="1068480"/>
            <a:ext cx="9102960" cy="5276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4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5440" y="1068480"/>
                      <a:ext cx="9102960" cy="527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5" name=""/>
            <p:cNvSpPr/>
            <p:nvPr/>
          </p:nvSpPr>
          <p:spPr>
            <a:xfrm>
              <a:off x="457200" y="6248520"/>
              <a:ext cx="230184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Fuente: EMMSA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4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124000" y="-360"/>
            <a:ext cx="70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PAPA: ABASTECIMIENTO EN EL MERCADO MAYORISTA DE LIMA (TM) -  2003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268000" y="-360"/>
            <a:ext cx="64947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MANDARINA: Precios y volúmenes suministrados al Mercado Mayorista de Lima 2001, 2002 y 200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47160" y="1181160"/>
            <a:ext cx="9096480" cy="5678640"/>
            <a:chOff x="47160" y="1181160"/>
            <a:chExt cx="9096480" cy="5678640"/>
          </a:xfrm>
        </p:grpSpPr>
        <p:graphicFrame>
          <p:nvGraphicFramePr>
            <p:cNvPr id="351" name=""/>
            <p:cNvGraphicFramePr/>
            <p:nvPr/>
          </p:nvGraphicFramePr>
          <p:xfrm>
            <a:off x="66600" y="1181160"/>
            <a:ext cx="9077040" cy="51055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5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6600" y="1181160"/>
                      <a:ext cx="9077040" cy="510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3" name=""/>
            <p:cNvSpPr/>
            <p:nvPr/>
          </p:nvSpPr>
          <p:spPr>
            <a:xfrm>
              <a:off x="47160" y="6400800"/>
              <a:ext cx="3243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Verdana"/>
                </a:rPr>
                <a:t>NOTA</a:t>
              </a:r>
              <a:r>
                <a:rPr b="1" i="1" lang="es-ES_tradnl" sz="1200" spc="-1" strike="noStrike">
                  <a:solidFill>
                    <a:srgbClr val="000000"/>
                  </a:solidFill>
                  <a:latin typeface="Verdana"/>
                </a:rPr>
                <a:t>:  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Verdana"/>
                </a:rPr>
                <a:t>Precio de Mandarina Satsuma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Verdana"/>
                </a:rPr>
                <a:t>Fuente: Mercado Mayorista de Frutas  Nº 2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205400" y="1219320"/>
              <a:ext cx="1752480" cy="106668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13800" y="1295640"/>
              <a:ext cx="40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TM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234200" y="1524240"/>
              <a:ext cx="110448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Año - 02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Año - 03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Variación %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278200" y="1494000"/>
              <a:ext cx="575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43,958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49,992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&gt; 14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"/>
          <p:cNvGrpSpPr/>
          <p:nvPr/>
        </p:nvGrpSpPr>
        <p:grpSpPr>
          <a:xfrm>
            <a:off x="231840" y="907920"/>
            <a:ext cx="8877240" cy="6102720"/>
            <a:chOff x="231840" y="907920"/>
            <a:chExt cx="8877240" cy="6102720"/>
          </a:xfrm>
        </p:grpSpPr>
        <p:graphicFrame>
          <p:nvGraphicFramePr>
            <p:cNvPr id="361" name=""/>
            <p:cNvGraphicFramePr/>
            <p:nvPr/>
          </p:nvGraphicFramePr>
          <p:xfrm>
            <a:off x="231840" y="907920"/>
            <a:ext cx="8877240" cy="51832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6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31840" y="907920"/>
                      <a:ext cx="8877240" cy="518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3" name=""/>
            <p:cNvSpPr/>
            <p:nvPr/>
          </p:nvSpPr>
          <p:spPr>
            <a:xfrm>
              <a:off x="239760" y="6124680"/>
              <a:ext cx="350532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Fuente: Mercado Mayorista de Frutas N° 2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Elaboración : Inform@cción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3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123640" y="-171720"/>
            <a:ext cx="64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MANDARINA: ABASTECIMIENTO EN EL MERCADO MAYORISTA DE LIMA -  2003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"/>
          <p:cNvGraphicFramePr/>
          <p:nvPr/>
        </p:nvGraphicFramePr>
        <p:xfrm>
          <a:off x="198360" y="981000"/>
          <a:ext cx="8945640" cy="507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360" y="981000"/>
                    <a:ext cx="8945640" cy="50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0" y="6064200"/>
            <a:ext cx="45277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Fuente: MINA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laboración: inform@c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*Estimad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68360" y="-360"/>
            <a:ext cx="6188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ARROZ: PRODUCCION NACIONAL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(TM)  -  2003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339640" y="-76680"/>
            <a:ext cx="6194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ARROZ: ABASTECIMIENTO EN EL MERCADO PRODUCTORES DE SANTA ANITA (TM) Y PRECIOS MAYORISTA (US$ / KG)  ene 01 - dic 03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-11160" y="914400"/>
            <a:ext cx="9231480" cy="5942880"/>
            <a:chOff x="-11160" y="914400"/>
            <a:chExt cx="9231480" cy="5942880"/>
          </a:xfrm>
        </p:grpSpPr>
        <p:graphicFrame>
          <p:nvGraphicFramePr>
            <p:cNvPr id="375" name=""/>
            <p:cNvGraphicFramePr/>
            <p:nvPr/>
          </p:nvGraphicFramePr>
          <p:xfrm>
            <a:off x="0" y="990720"/>
            <a:ext cx="9220320" cy="5505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7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90720"/>
                      <a:ext cx="9220320" cy="550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7" name=""/>
            <p:cNvSpPr/>
            <p:nvPr/>
          </p:nvSpPr>
          <p:spPr>
            <a:xfrm>
              <a:off x="7140600" y="914400"/>
              <a:ext cx="1927080" cy="106668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809120" y="990720"/>
              <a:ext cx="406080" cy="246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TM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167600" y="1219320"/>
              <a:ext cx="1292040" cy="596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Año - 02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Año - 03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Variación %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222400" y="1209600"/>
              <a:ext cx="680760" cy="596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363,597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394,618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&gt; 9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-11160" y="6519960"/>
              <a:ext cx="443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</a:rPr>
                <a:t>Fuente: Mercado Productores de Santa Anita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8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"/>
          <p:cNvGraphicFramePr/>
          <p:nvPr/>
        </p:nvGraphicFramePr>
        <p:xfrm>
          <a:off x="66600" y="1260360"/>
          <a:ext cx="8945640" cy="507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600" y="1260360"/>
                    <a:ext cx="8945640" cy="50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08000" y="6264360"/>
            <a:ext cx="44197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Fuente: Mercado Productores de Sta Anit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laboración: inform@c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195280" y="-360"/>
            <a:ext cx="69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ARROZ: ABASTECIMIENTO EN EL MERCADO PRODUCTORES DE SANTA ANITA (TM) -  2003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123640" y="-27360"/>
            <a:ext cx="6867720" cy="114300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AZUCAR: ABASTECIMIENTO EN EL MERCADO PRODUCTORES DE SANTA ANITA (TM) Y PRECIOS MAYORISTA (US$ / KG) ene 01 - dic 03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-11160" y="1052640"/>
            <a:ext cx="9123480" cy="5804640"/>
            <a:chOff x="-11160" y="1052640"/>
            <a:chExt cx="9123480" cy="5804640"/>
          </a:xfrm>
        </p:grpSpPr>
        <p:sp>
          <p:nvSpPr>
            <p:cNvPr id="392" name=""/>
            <p:cNvSpPr/>
            <p:nvPr/>
          </p:nvSpPr>
          <p:spPr>
            <a:xfrm>
              <a:off x="-11160" y="6519960"/>
              <a:ext cx="443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</a:rPr>
                <a:t>Fuente: Mercado Productores de Santa Anita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aphicFrame>
          <p:nvGraphicFramePr>
            <p:cNvPr id="393" name=""/>
            <p:cNvGraphicFramePr/>
            <p:nvPr/>
          </p:nvGraphicFramePr>
          <p:xfrm>
            <a:off x="6480" y="1123920"/>
            <a:ext cx="9074160" cy="5276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9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80" y="1123920"/>
                      <a:ext cx="9074160" cy="527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95" name=""/>
            <p:cNvSpPr/>
            <p:nvPr/>
          </p:nvSpPr>
          <p:spPr>
            <a:xfrm>
              <a:off x="7451640" y="1052640"/>
              <a:ext cx="1660680" cy="106668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047080" y="1128600"/>
              <a:ext cx="40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TM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467480" y="1357200"/>
              <a:ext cx="110520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Año - 02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Año - 03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Variación %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424360" y="1327320"/>
              <a:ext cx="646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251,252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260,994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&gt; 4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9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8T17:26:36Z</dcterms:created>
  <dc:creator>Luigi Riva Melofiro</dc:creator>
  <dc:description/>
  <dc:language>en-US</dc:language>
  <cp:lastModifiedBy>Asociacion Civil</cp:lastModifiedBy>
  <dcterms:modified xsi:type="dcterms:W3CDTF">2004-01-29T00:24:58Z</dcterms:modified>
  <cp:revision>50</cp:revision>
  <dc:subject/>
  <dc:title>COMERCIALIZACION DE ARROZ EN EL MERCADO PRODUCTORES DE STA. ANITA POR   AÑO 1999, 2000, 2001 y 2002 (TM)</dc:title>
</cp:coreProperties>
</file>