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2.wmf" ContentType="image/x-wmf"/>
  <Override PartName="/ppt/media/image21.jpeg" ContentType="image/jpeg"/>
  <Override PartName="/ppt/media/image18.wmf" ContentType="image/x-wmf"/>
  <Override PartName="/ppt/media/image2.jpeg" ContentType="image/jpeg"/>
  <Override PartName="/ppt/media/image20.png" ContentType="image/png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10.jpeg" ContentType="image/jpeg"/>
  <Override PartName="/ppt/media/image5.png" ContentType="image/png"/>
  <Override PartName="/ppt/media/image27.png" ContentType="image/png"/>
  <Override PartName="/ppt/media/image12.wmf" ContentType="image/x-wmf"/>
  <Override PartName="/ppt/media/image30.jpeg" ContentType="image/jpeg"/>
  <Override PartName="/ppt/media/image35.wmf" ContentType="image/x-wmf"/>
  <Override PartName="/ppt/media/image32.jpeg" ContentType="image/jpeg"/>
  <Override PartName="/ppt/media/image33.wmf" ContentType="image/x-wmf"/>
  <Override PartName="/ppt/media/image13.png" ContentType="image/png"/>
  <Override PartName="/ppt/media/image37.jpeg" ContentType="image/jpeg"/>
  <Override PartName="/ppt/media/image40.wmf" ContentType="image/x-wmf"/>
  <Override PartName="/ppt/media/image34.jpeg" ContentType="image/jpeg"/>
  <Override PartName="/ppt/media/image7.jpeg" ContentType="image/jpeg"/>
  <Override PartName="/ppt/media/image28.jpeg" ContentType="image/jpeg"/>
  <Override PartName="/ppt/media/image36.wmf" ContentType="image/x-wmf"/>
  <Override PartName="/ppt/media/image39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6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F1E7-E868-48B8-AEF2-72CF4C29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FE12-E93D-4A0B-82E1-3DFCEFF1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E5CD-EB79-4382-9CAB-EBA1DE1C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B76-104F-4EE3-AD6F-0BBA73AF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F4A6-F1EF-4ADD-B9F1-827FF3F7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C65C-A658-40DE-BFE8-11697F61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ADF2-AE31-4C06-8207-4DAB73CD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413D-B023-4263-9B4E-5BDEE4CA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148D-F58F-4E14-A452-195F19FF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9792-D48E-4003-844D-2148EE62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FAEF-3406-4BF4-9E9B-F5EFDA4B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8EE3-9BBF-427C-9203-72A747DB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CA58-CD26-4B36-9511-0FF1A86A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992C-C880-4157-8454-375CE5DC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7568-B85D-4D28-9C4D-53883CEC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78C3-3BFC-4344-826C-3FB90192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40E3-C899-43DA-B62C-44F56C75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CC6CF-57DD-414F-9C1A-90F49BCA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2D061-0E77-47EB-8574-DEB9255F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2008E-4C95-4340-B4CB-9054C4CC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86DEC-215E-487A-B914-9CA5125E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CC5D3-C6B6-4DD1-90F2-7C434109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D304-868E-4FD9-83AC-3F816AF3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8FF7D-6CB8-4F2E-8068-5485170A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275EE-075D-4453-80F5-8F45D846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D0FD5-D2E4-4E18-AA29-05B1CF44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C9D41-7444-4EFD-8D83-20755298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0720F-4079-4285-A126-337BF2F4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6B4F4-FAF6-47FD-B536-BD5AF85F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F5F66-F534-4C6A-8A76-764519FD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7D6DB-355F-4EB7-A397-3F944FE1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A4ACE-76EB-4676-AFBA-8818A570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CABF4-6EAF-4E36-B058-39BC6F7C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02AA-A39F-4404-A3D9-1278C9D5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DC360-C37E-4291-BE6A-AC04D637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9F54F-47EF-45DE-B609-69F5F230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1839D-12AB-4AAC-99B1-8EE99BCC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AB8FE-BCCB-4349-9E95-2713B9E9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7D19A-DA95-4A0C-82EB-BB17D1A3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92032-E760-48A3-A6C4-50444B8B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EAA39-F557-4E6D-87C2-30791471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9F84C-04E7-4A8A-B6C5-2A8D0FC4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7F367-ACC1-4EE1-A093-ED52BFF8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76DAF-DD7C-45DF-8052-707CE270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FD62-F0B2-4E26-B41A-6B80AB00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3D555-12DA-416A-A6CB-E886A14C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2A248-5A41-4DD2-B12F-AF1422A4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84555-C45B-4887-B409-2C5C0C13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83CF0-D4CD-4F6E-97CF-40B2C62E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5F28B-F53C-44B4-8BEE-9FFEE8E3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EBE86-0B42-461D-B495-4D9DE8E0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B9AF5-9F4E-4FBA-B417-DE25AF40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3B442-B1C1-4041-B27F-FEFF0829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11E7B-8F4A-4564-A2A2-FF0DFAD4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168BA-A9F2-4C2D-BDB1-EEAD32B7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A2C6-BB7E-4B55-B6F7-D25259F2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1F0F5-33CA-4798-A3A3-80DBB0AC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F91AC-4A22-4CDB-AAE6-5210A547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6CDC3-C1CF-4432-9B94-98049E8F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31778-FAD8-48D4-AEEC-6809A2F4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D4EBF-8423-4737-B503-DBB0CE39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A5EDD-2AD7-477F-B5EC-BD2A0A95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D557F-95FC-4013-8A21-A5519806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25A25-9E79-4B7B-B7EE-7F2275FB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A083D-4B9C-4FB6-8D63-51E3EB81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D861F-5688-4D76-A054-FB44EB57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C760-E566-4024-8CC4-66E81368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BF9A4-9773-4D99-A164-762D05A9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2971A-6C7A-4EC8-A9D0-09173121E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EC84F-B0BF-4C53-9553-8AC14354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6AA0E-DE91-4516-9CE2-61495DFF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91ECD-AFD8-4E50-ABF3-581D61D7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DAD66-31A8-4ADD-AC7D-8C6D72A6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77446-DA25-494B-8D45-97E01F76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5A4CD-9EA8-4CFD-A0B9-EAF75AFD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C34CC-FDCF-43B2-9A07-802F4234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BE204-94D8-4D02-B372-ABB71BA3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F867-56B4-485A-9623-092A71E3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5CD32-5A99-43FC-98D7-B5717325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F9173-9CE8-4983-BD20-8E437A04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4676F-07AE-4FCD-A748-FF6EB459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DD093-29AC-440C-A539-F46F4987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C53E0-AA0B-434B-B42D-B297CA03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892D9-D63F-4D82-918C-3342746E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A4B43-2D51-4A2B-A4CC-973594C9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BE3AB-06F7-4350-9179-7D0517EF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B6D33-AD08-4E3A-8980-24DFF7CE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61C51-C267-40E2-B6FE-EB01F82D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657-A9F0-4B26-9A18-2A45E52B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5F46A-A25B-4399-B6B3-AC4B3FB5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C1A81-546E-4C89-AE38-FFFEEA1B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2D539-36F8-401B-8F79-EB733DE3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3B2D8-4427-4FF4-BE88-4E43598C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3D614-A27A-4332-BF24-B3EBBBC5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D200C-A402-47D4-BE23-70FD7352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52D70-8273-467B-A90B-3BF9D2CD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6B3C-2639-44DE-B855-A265BDE39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41F3-22CF-47DF-825C-8A2B481D4D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8C0F-3A38-4D95-9F27-EFA2FEEB90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E9F2-AE93-47FF-8DF9-9C38045199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6D02-E576-4B19-856F-C08BD06E04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3E5C-990F-4730-A5C1-C5F8042E9D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E129-6C0C-4258-B675-6ED955859B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D91C-ED83-4943-86C6-D5C7502EAB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ERCADO PARA LA AGROINDUSTRIA PERUA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154080" y="957240"/>
          <a:ext cx="8961480" cy="520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080" y="957240"/>
                    <a:ext cx="8961480" cy="52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179280" y="624852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10920" y="-90720"/>
            <a:ext cx="619308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68360" y="-18000"/>
            <a:ext cx="6732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. NACIONAL (TM) Y PRECIOS CHACRA* (US$ / KG) 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-59040" y="836640"/>
            <a:ext cx="9176040" cy="6023160"/>
            <a:chOff x="-59040" y="836640"/>
            <a:chExt cx="9176040" cy="6023160"/>
          </a:xfrm>
        </p:grpSpPr>
        <p:sp>
          <p:nvSpPr>
            <p:cNvPr id="409" name=""/>
            <p:cNvSpPr/>
            <p:nvPr/>
          </p:nvSpPr>
          <p:spPr>
            <a:xfrm>
              <a:off x="-59040" y="6400800"/>
              <a:ext cx="378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* Precio de principal variedad: Algodón Tangui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410" name=""/>
            <p:cNvGraphicFramePr/>
            <p:nvPr/>
          </p:nvGraphicFramePr>
          <p:xfrm>
            <a:off x="6480" y="1233360"/>
            <a:ext cx="9110520" cy="4902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233360"/>
                      <a:ext cx="9110520" cy="490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2" name=""/>
            <p:cNvGrpSpPr/>
            <p:nvPr/>
          </p:nvGrpSpPr>
          <p:grpSpPr>
            <a:xfrm>
              <a:off x="7315200" y="836640"/>
              <a:ext cx="1757880" cy="1066680"/>
              <a:chOff x="7315200" y="836640"/>
              <a:chExt cx="1757880" cy="1066680"/>
            </a:xfrm>
          </p:grpSpPr>
          <p:sp>
            <p:nvSpPr>
              <p:cNvPr id="413" name=""/>
              <p:cNvSpPr/>
              <p:nvPr/>
            </p:nvSpPr>
            <p:spPr>
              <a:xfrm>
                <a:off x="7315200" y="836640"/>
                <a:ext cx="1752480" cy="1066680"/>
              </a:xfrm>
              <a:prstGeom prst="flowChartAlternateProcess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923240" y="912960"/>
                <a:ext cx="406080" cy="2462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 </a:t>
                </a: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TM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429320" y="1141560"/>
                <a:ext cx="1104480" cy="6955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2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Variación %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26800" y="1081080"/>
                <a:ext cx="746280" cy="750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7,368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3,367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&lt; 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168120" y="919080"/>
            <a:ext cx="9018720" cy="5797080"/>
            <a:chOff x="168120" y="919080"/>
            <a:chExt cx="9018720" cy="5797080"/>
          </a:xfrm>
        </p:grpSpPr>
        <p:graphicFrame>
          <p:nvGraphicFramePr>
            <p:cNvPr id="420" name=""/>
            <p:cNvGraphicFramePr/>
            <p:nvPr/>
          </p:nvGraphicFramePr>
          <p:xfrm>
            <a:off x="168120" y="919080"/>
            <a:ext cx="9018720" cy="5264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8120" y="919080"/>
                      <a:ext cx="9018720" cy="526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"/>
            <p:cNvSpPr/>
            <p:nvPr/>
          </p:nvSpPr>
          <p:spPr>
            <a:xfrm>
              <a:off x="457200" y="61657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*Estimad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25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ION NACIONAL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(TM) - 2003 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050560" y="-907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ESPARRAGO FRESC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99 -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64342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77840" y="884160"/>
            <a:ext cx="8907480" cy="5876280"/>
            <a:chOff x="177840" y="884160"/>
            <a:chExt cx="8907480" cy="5876280"/>
          </a:xfrm>
        </p:grpSpPr>
        <p:graphicFrame>
          <p:nvGraphicFramePr>
            <p:cNvPr id="429" name=""/>
            <p:cNvGraphicFramePr/>
            <p:nvPr/>
          </p:nvGraphicFramePr>
          <p:xfrm>
            <a:off x="177840" y="884160"/>
            <a:ext cx="8907480" cy="5475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7840" y="884160"/>
                      <a:ext cx="8907480" cy="547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496440" y="64515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36800" y="6453360"/>
              <a:ext cx="24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Cifra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050920" y="11592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A: MERCADO DEL ESPARRAGO FRESC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7520" y="1035000"/>
            <a:ext cx="9167760" cy="5550120"/>
            <a:chOff x="47520" y="1035000"/>
            <a:chExt cx="9167760" cy="5550120"/>
          </a:xfrm>
        </p:grpSpPr>
        <p:graphicFrame>
          <p:nvGraphicFramePr>
            <p:cNvPr id="437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179280" y="6308640"/>
              <a:ext cx="296244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65520" y="2297160"/>
              <a:ext cx="490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  2001   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MANG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) CAMPAÑA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999/2000 -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3/ 2004*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95400" y="1057320"/>
          <a:ext cx="9119880" cy="53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057320"/>
                    <a:ext cx="9119880" cy="53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28800" y="6308640"/>
            <a:ext cx="239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(*) Hasta 19 de enero 2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Fuente: AD</a:t>
            </a:r>
            <a:r>
              <a:rPr b="1" i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UAN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181080" y="64594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in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12720" y="115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USA: MERCADO DEL MANGO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aphicFrame>
          <p:nvGraphicFramePr>
            <p:cNvPr id="454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381720"/>
              <a:ext cx="274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37120" y="2270160"/>
              <a:ext cx="46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2001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050920" y="-243360"/>
            <a:ext cx="69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UVA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br>
              <a:rPr sz="1800"/>
            </a:b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98/99, 99/00, 00/01, 01/02, 02/03 Y 03/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800" y="914400"/>
            <a:ext cx="9059760" cy="5917320"/>
            <a:chOff x="1800" y="914400"/>
            <a:chExt cx="9059760" cy="5917320"/>
          </a:xfrm>
        </p:grpSpPr>
        <p:graphicFrame>
          <p:nvGraphicFramePr>
            <p:cNvPr id="461" name=""/>
            <p:cNvGraphicFramePr/>
            <p:nvPr/>
          </p:nvGraphicFramePr>
          <p:xfrm>
            <a:off x="11160" y="914400"/>
            <a:ext cx="9050400" cy="539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60" y="914400"/>
                      <a:ext cx="9050400" cy="539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" name=""/>
            <p:cNvSpPr/>
            <p:nvPr/>
          </p:nvSpPr>
          <p:spPr>
            <a:xfrm>
              <a:off x="1800" y="6524640"/>
              <a:ext cx="170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50400" y="6502320"/>
              <a:ext cx="218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(*)Hasta Diciembre del 20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11280" y="115920"/>
            <a:ext cx="6481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TADOS UNIDOS: ABASTECIMIENTO DE UVA FRESCA  1999 - 2002 (TM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pSp>
          <p:nvGrpSpPr>
            <p:cNvPr id="471" name=""/>
            <p:cNvGrpSpPr/>
            <p:nvPr/>
          </p:nvGrpSpPr>
          <p:grpSpPr>
            <a:xfrm>
              <a:off x="0" y="1035000"/>
              <a:ext cx="9215280" cy="5684040"/>
              <a:chOff x="0" y="1035000"/>
              <a:chExt cx="9215280" cy="5684040"/>
            </a:xfrm>
          </p:grpSpPr>
          <p:graphicFrame>
            <p:nvGraphicFramePr>
              <p:cNvPr id="472" name=""/>
              <p:cNvGraphicFramePr/>
              <p:nvPr/>
            </p:nvGraphicFramePr>
            <p:xfrm>
              <a:off x="47520" y="1035000"/>
              <a:ext cx="9167760" cy="5418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7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520" y="1035000"/>
                        <a:ext cx="9167760" cy="541836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</p:spPr>
                  </p:pic>
                </p:oleObj>
              </a:graphicData>
            </a:graphic>
          </p:graphicFrame>
          <p:sp>
            <p:nvSpPr>
              <p:cNvPr id="474" name=""/>
              <p:cNvSpPr/>
              <p:nvPr/>
            </p:nvSpPr>
            <p:spPr>
              <a:xfrm>
                <a:off x="0" y="6381720"/>
                <a:ext cx="3348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Verdana"/>
                  </a:rPr>
                  <a:t>Fuente : Gobierno de Estados Unidos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2790720" y="2060640"/>
              <a:ext cx="48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1999              2000                2001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79280" y="-243360"/>
            <a:ext cx="7164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LTA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1999,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-6120" y="836640"/>
            <a:ext cx="8980200" cy="6012360"/>
            <a:chOff x="-6120" y="836640"/>
            <a:chExt cx="8980200" cy="6012360"/>
          </a:xfrm>
        </p:grpSpPr>
        <p:graphicFrame>
          <p:nvGraphicFramePr>
            <p:cNvPr id="478" name=""/>
            <p:cNvGraphicFramePr/>
            <p:nvPr/>
          </p:nvGraphicFramePr>
          <p:xfrm>
            <a:off x="0" y="836640"/>
            <a:ext cx="8974080" cy="5437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8974080" cy="54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325080" y="62373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6120" y="6541920"/>
              <a:ext cx="24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Dato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95280" y="-76680"/>
            <a:ext cx="6491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PRECIOS Y VOLUMENES SUMINISTRADOS AL MERCADO MAYORISTA DE LIMA 2001, 2002 Y 2003</a:t>
            </a: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-10800" y="981000"/>
            <a:ext cx="9288000" cy="5704920"/>
            <a:chOff x="-10800" y="981000"/>
            <a:chExt cx="9288000" cy="5704920"/>
          </a:xfrm>
        </p:grpSpPr>
        <p:sp>
          <p:nvSpPr>
            <p:cNvPr id="333" name=""/>
            <p:cNvSpPr/>
            <p:nvPr/>
          </p:nvSpPr>
          <p:spPr>
            <a:xfrm>
              <a:off x="-10800" y="6165720"/>
              <a:ext cx="26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NOTA:  Precio de Papa Blanc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34" name=""/>
            <p:cNvGraphicFramePr/>
            <p:nvPr/>
          </p:nvGraphicFramePr>
          <p:xfrm>
            <a:off x="0" y="998280"/>
            <a:ext cx="9277200" cy="5238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8280"/>
                      <a:ext cx="9277200" cy="523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6" name=""/>
            <p:cNvSpPr/>
            <p:nvPr/>
          </p:nvSpPr>
          <p:spPr>
            <a:xfrm>
              <a:off x="7362720" y="98100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1120" y="105696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1285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74680" y="1225440"/>
              <a:ext cx="7462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80,956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62,86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&lt;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50560" y="-171720"/>
            <a:ext cx="720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ITRICO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1999, 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240" y="1071720"/>
            <a:ext cx="8947080" cy="5455080"/>
            <a:chOff x="3240" y="1071720"/>
            <a:chExt cx="8947080" cy="5455080"/>
          </a:xfrm>
        </p:grpSpPr>
        <p:graphicFrame>
          <p:nvGraphicFramePr>
            <p:cNvPr id="486" name=""/>
            <p:cNvGraphicFramePr/>
            <p:nvPr/>
          </p:nvGraphicFramePr>
          <p:xfrm>
            <a:off x="3240" y="1071720"/>
            <a:ext cx="8947080" cy="5155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40" y="1071720"/>
                      <a:ext cx="8947080" cy="51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8" name=""/>
            <p:cNvSpPr/>
            <p:nvPr/>
          </p:nvSpPr>
          <p:spPr>
            <a:xfrm>
              <a:off x="74160" y="621972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340000" y="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TINO MENSUAL DE LAS EXPORTACIONES DE CITR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ERO 1999 - 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DICIEMBR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200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3 (T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7240" y="981000"/>
            <a:ext cx="9086760" cy="6092280"/>
            <a:chOff x="57240" y="981000"/>
            <a:chExt cx="9086760" cy="6092280"/>
          </a:xfrm>
        </p:grpSpPr>
        <p:graphicFrame>
          <p:nvGraphicFramePr>
            <p:cNvPr id="493" name=""/>
            <p:cNvGraphicFramePr/>
            <p:nvPr/>
          </p:nvGraphicFramePr>
          <p:xfrm>
            <a:off x="57240" y="981000"/>
            <a:ext cx="90867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240" y="981000"/>
                      <a:ext cx="90867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124560" y="6553080"/>
              <a:ext cx="16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58920" y="2060640"/>
              <a:ext cx="73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1999            2000            2001         2002          200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ADOS UNIDOS: ABASTECIMIENTO DE CITRICOS FRESCOS 2000 - 2002 (TM)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7960" y="984240"/>
            <a:ext cx="9119520" cy="5864400"/>
            <a:chOff x="57960" y="984240"/>
            <a:chExt cx="9119520" cy="5864400"/>
          </a:xfrm>
        </p:grpSpPr>
        <p:graphicFrame>
          <p:nvGraphicFramePr>
            <p:cNvPr id="501" name=""/>
            <p:cNvGraphicFramePr/>
            <p:nvPr/>
          </p:nvGraphicFramePr>
          <p:xfrm>
            <a:off x="81000" y="984240"/>
            <a:ext cx="909648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1000" y="984240"/>
                      <a:ext cx="909648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3" name=""/>
            <p:cNvSpPr/>
            <p:nvPr/>
          </p:nvSpPr>
          <p:spPr>
            <a:xfrm>
              <a:off x="57960" y="6572160"/>
              <a:ext cx="257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Verdana"/>
                </a:rPr>
                <a:t>Fuente: Gobierno Estados Unido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73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81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29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Índice del Tipo de Cambio e Índice de Precios al Consumidor de Perú y Brasil (Año 1994=100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780000" y="6427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"/>
          <p:cNvSpPr/>
          <p:nvPr/>
        </p:nvSpPr>
        <p:spPr>
          <a:xfrm>
            <a:off x="15876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0" y="765000"/>
            <a:ext cx="9212400" cy="6125040"/>
            <a:chOff x="0" y="765000"/>
            <a:chExt cx="9212400" cy="6125040"/>
          </a:xfrm>
        </p:grpSpPr>
        <p:sp>
          <p:nvSpPr>
            <p:cNvPr id="514" name=""/>
            <p:cNvSpPr/>
            <p:nvPr/>
          </p:nvSpPr>
          <p:spPr>
            <a:xfrm>
              <a:off x="0" y="6335640"/>
              <a:ext cx="8675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uente: International Financial Statistics-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national Monetary Found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515" name=""/>
            <p:cNvGraphicFramePr/>
            <p:nvPr/>
          </p:nvGraphicFramePr>
          <p:xfrm>
            <a:off x="54000" y="765000"/>
            <a:ext cx="9158400" cy="538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000" y="765000"/>
                      <a:ext cx="9158400" cy="538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UCHAS GRACI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55440" y="1068480"/>
            <a:ext cx="9102960" cy="5730480"/>
            <a:chOff x="55440" y="1068480"/>
            <a:chExt cx="9102960" cy="5730480"/>
          </a:xfrm>
        </p:grpSpPr>
        <p:graphicFrame>
          <p:nvGraphicFramePr>
            <p:cNvPr id="343" name=""/>
            <p:cNvGraphicFramePr/>
            <p:nvPr/>
          </p:nvGraphicFramePr>
          <p:xfrm>
            <a:off x="55440" y="1068480"/>
            <a:ext cx="91029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440" y="1068480"/>
                      <a:ext cx="91029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"/>
            <p:cNvSpPr/>
            <p:nvPr/>
          </p:nvSpPr>
          <p:spPr>
            <a:xfrm>
              <a:off x="457200" y="62485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ABASTECIMIENTO EN EL MERCADO MAYORISTA DE LIM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4947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Precios y volúmenes suministrados al Mercado Mayorista de Lima 2001, 2002 y 200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7160" y="1181160"/>
            <a:ext cx="9096480" cy="5678640"/>
            <a:chOff x="47160" y="1181160"/>
            <a:chExt cx="9096480" cy="5678640"/>
          </a:xfrm>
        </p:grpSpPr>
        <p:graphicFrame>
          <p:nvGraphicFramePr>
            <p:cNvPr id="351" name=""/>
            <p:cNvGraphicFramePr/>
            <p:nvPr/>
          </p:nvGraphicFramePr>
          <p:xfrm>
            <a:off x="66600" y="1181160"/>
            <a:ext cx="9077040" cy="510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6600" y="1181160"/>
                      <a:ext cx="907704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"/>
            <p:cNvSpPr/>
            <p:nvPr/>
          </p:nvSpPr>
          <p:spPr>
            <a:xfrm>
              <a:off x="47160" y="6400800"/>
              <a:ext cx="324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NOTA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: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Verdana"/>
                </a:rPr>
                <a:t>Precio de Mandarina Satsum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Fuente: Mercado Mayorista de Frutas  Nº 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05400" y="1219320"/>
              <a:ext cx="17524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13800" y="129564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34200" y="1524240"/>
              <a:ext cx="1104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78200" y="1494000"/>
              <a:ext cx="57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3,958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9,99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1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231840" y="907920"/>
            <a:ext cx="8877240" cy="6102720"/>
            <a:chOff x="231840" y="907920"/>
            <a:chExt cx="8877240" cy="6102720"/>
          </a:xfrm>
        </p:grpSpPr>
        <p:graphicFrame>
          <p:nvGraphicFramePr>
            <p:cNvPr id="361" name=""/>
            <p:cNvGraphicFramePr/>
            <p:nvPr/>
          </p:nvGraphicFramePr>
          <p:xfrm>
            <a:off x="231840" y="907920"/>
            <a:ext cx="8877240" cy="5183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1840" y="907920"/>
                      <a:ext cx="8877240" cy="51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239760" y="6124680"/>
              <a:ext cx="3505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Mercado Mayorista de Frutas N° 2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aboración : Inform@cción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4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ABASTECIMIENTO EN EL MERCADO MAYORISTA DE LIMA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198360" y="98100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360" y="98100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064200"/>
            <a:ext cx="4527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IN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*Estim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618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PRODUCCION NACIONAL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(TM) 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339640" y="-76680"/>
            <a:ext cx="619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Y PRECIOS MAYORISTA (US$ / KG)  ene 01 - dic 0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-11160" y="914400"/>
            <a:ext cx="9231480" cy="5942880"/>
            <a:chOff x="-11160" y="914400"/>
            <a:chExt cx="9231480" cy="5942880"/>
          </a:xfrm>
        </p:grpSpPr>
        <p:graphicFrame>
          <p:nvGraphicFramePr>
            <p:cNvPr id="375" name=""/>
            <p:cNvGraphicFramePr/>
            <p:nvPr/>
          </p:nvGraphicFramePr>
          <p:xfrm>
            <a:off x="0" y="990720"/>
            <a:ext cx="9220320" cy="550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0720"/>
                      <a:ext cx="9220320" cy="550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7" name=""/>
            <p:cNvSpPr/>
            <p:nvPr/>
          </p:nvSpPr>
          <p:spPr>
            <a:xfrm>
              <a:off x="7140600" y="914400"/>
              <a:ext cx="19270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9120" y="990720"/>
              <a:ext cx="406080" cy="246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67600" y="1219320"/>
              <a:ext cx="129204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222400" y="1209600"/>
              <a:ext cx="68076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63,597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94,618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9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66600" y="126036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126036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08000" y="626436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23640" y="-27360"/>
            <a:ext cx="686772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Y PRECIOS MAYORISTA (US$ / KG) 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-11160" y="1052640"/>
            <a:ext cx="9123480" cy="5804640"/>
            <a:chOff x="-11160" y="1052640"/>
            <a:chExt cx="9123480" cy="5804640"/>
          </a:xfrm>
        </p:grpSpPr>
        <p:sp>
          <p:nvSpPr>
            <p:cNvPr id="392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93" name=""/>
            <p:cNvGraphicFramePr/>
            <p:nvPr/>
          </p:nvGraphicFramePr>
          <p:xfrm>
            <a:off x="6480" y="1123920"/>
            <a:ext cx="90741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123920"/>
                      <a:ext cx="90741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5" name=""/>
            <p:cNvSpPr/>
            <p:nvPr/>
          </p:nvSpPr>
          <p:spPr>
            <a:xfrm>
              <a:off x="7451640" y="1052640"/>
              <a:ext cx="16606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47080" y="112860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1357200"/>
              <a:ext cx="11052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424360" y="1327320"/>
              <a:ext cx="64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51,25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60,99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7:26:36Z</dcterms:created>
  <dc:creator>Luigi Riva Melofiro</dc:creator>
  <dc:description/>
  <dc:language>en-US</dc:language>
  <cp:lastModifiedBy>Asociacion Civil</cp:lastModifiedBy>
  <dcterms:modified xsi:type="dcterms:W3CDTF">2004-01-29T00:24:58Z</dcterms:modified>
  <cp:revision>50</cp:revision>
  <dc:subject/>
  <dc:title>COMERCIALIZACION DE ARROZ EN EL MERCADO PRODUCTORES DE STA. ANITA POR   AÑO 1999, 2000, 2001 y 2002 (TM)</dc:title>
</cp:coreProperties>
</file>